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437-9D7D-4D46-92F5-69AF5D29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654-2A53-4996-BEA4-390436D6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327-C86D-42E6-8F92-CC489375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622-64E4-4848-ABE6-1CF682B8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02B3-F556-43BA-94BC-D46D9968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7B50-FFBE-4405-AF2A-A00B3D92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9AC6-3F73-4981-856A-98392257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D89E-2A49-4FB9-ACF5-78ECBA6D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4424-7678-4844-A284-D5CA6F59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6673-990B-441F-B501-886CCE0A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7397-BDEA-44B7-A338-BFE80D1D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E50-9577-45CD-80F3-663FBFFA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DD01-C9CD-4F3E-BDAB-CBC785A4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4D27-3912-461B-BE98-4CF6F88F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0C7A-0482-44E2-8984-F6F1CFE0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1DCD-E1C2-4B8E-9F46-98458DA1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51F-5482-4CF0-BED2-6F1154B7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74401-B32D-4094-BB92-109FE1A4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3FD1-0BED-4AD7-8EBB-538A686F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4CAD-82DD-4634-B1E9-72622325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D64F-D9A3-467A-B28D-100C6E9E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9153-B1A1-49F9-8DE0-9A301C13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D61-336E-49CA-869B-265A9946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2727-8DCF-4726-B1DA-65476744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AA8B-D659-419C-933E-26FB62C1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35CB-F641-4F1E-A48A-ABB71E6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3D11-CE20-47D8-9BB0-CB8FA53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5184-F21D-4E8A-A89B-F5832D4B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4A217-0728-495A-BAB4-5AABABA7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142F-9FB2-478B-ABBA-29AF9C6B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87CDD-DA7B-4172-89FF-4DAC758E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FA6F7-1F78-402B-81B6-CE7958B2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D7E3A-C76D-465A-99A9-D407C58C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B9D-A935-4241-91EE-D9B1DDF2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CCECE-0AB4-4F46-ACE9-25642447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16554-04D6-45BE-B3FE-E10052F7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3F24D-8146-4D6B-B836-0DA36211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E4D6-92DF-4EF0-A788-89A6E6FB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EBB8-954D-4BE7-8D39-5534DBBB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4996B-08DE-44A4-A3D7-9F69C21D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6C46-FB18-42EC-A01D-34A03502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4F6BC-28EC-4927-B225-7BD707FA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9458-CB38-42CA-859B-8BF00CE2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ADF6-0C7C-4EB5-B8A4-E6445314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405-04B7-4EE6-8C8C-7CB015F3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3D20-2206-45B6-83BE-CED239C1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4D4A9-0C45-4A93-B816-6B5AB3C7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BDD4-18C7-425D-8A78-163F711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85490-98E4-4FDC-9B01-05DBB7AB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8EA46-94CD-4814-B997-0C629F72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0B324-8A3F-4338-86C9-A91A054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4CB6-19BC-4615-9E83-F0337C6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0C902-54CC-4464-84D8-E7751DBC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1C60C-131A-422D-8F86-6553D71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83E6-5F74-41E5-B394-2AB422E8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0AC-6332-46BB-81F0-B390CA52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0F0CE-5595-4C09-9096-60D57226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DED2-F759-4DA9-A1E4-642D5279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3D1A2-585F-44DA-8EF8-D98148A9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531D0-0018-4FA8-944B-F08DE274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FA574-639A-4284-9563-7D821773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707C-56F3-45CF-858D-F0E472A2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D6610-47F9-4C1D-8C22-857EDE55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C3627-0443-4BE0-A0F2-0D8CDAA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AAB2E-23A0-4E9A-9872-859EA63B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3E9B-803A-45B6-AA09-0D894003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81E-5800-4B70-8289-43C24D6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AC012-660D-4EDA-8B68-95CE676A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819C1-6BCC-4EA6-B600-4BB410A7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DBBA-B469-4CFC-89B1-646E3CAC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4DA9B-6107-48E5-A80A-AA728CB7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B294-83B3-42FB-9B7E-D75173A5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34999-D59A-4FCB-9700-A927C664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5FD5D-055E-4E0B-A669-D93FAE2A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3AC36-FC6A-4C9A-97E6-FB4D162E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480A8-42DB-42AE-B898-59A6CCD9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CD54C-6E86-4DD7-9C36-7D264A28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AF9-51C0-407E-8434-7E1C635C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D6A21-A3A5-41B4-A978-541C4FC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FAAF7-EF47-41B8-8173-326E8BAD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A2D3B-1C2A-4179-8B84-1104FC9A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D1B7-2DD3-45EF-8D2A-BF7DC5E0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4246A-62D5-4602-9BCF-195D99E8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BC3-B467-4121-B884-ADCF663D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79B8-4105-425C-A3FC-0DB2730F156A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4CB2-1CAA-4311-9CFF-638E1E31CB5D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2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0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5E3A-65CF-4514-9391-423323D83E65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8355-088C-459B-AC06-44E053A20BED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EDDB-ADC6-4F27-B9EA-D147724EF86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72D0-FD10-4EEF-A081-3F3B2EF634F6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75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6B24-B54F-4AAB-B3ED-82108616544A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小学语文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、教材、学情</a:t>
            </a:r>
            <a:br>
              <a:rPr sz="6000"/>
            </a:b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解     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000160" y="4785840"/>
            <a:ext cx="667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华文中宋"/>
              </a:rPr>
              <a:t>——</a:t>
            </a: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西航港小学五年级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中宋"/>
              </a:rPr>
              <a:t>叶永珍  谢华琼  邓阳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三学段（五、六年级）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428480"/>
            <a:ext cx="7283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较强的独立识字能力。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硬笔书写楷书，行款整齐，有一定的速度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用毛笔书写楷书，在书写中体会汉字的美感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447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关键词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56800" y="761760"/>
            <a:ext cx="82868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数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六年总数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个左右常用汉字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质量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提出“认识”和“学会”两种目标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兴趣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对学习汉字有浓厚的兴趣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习惯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养成主动识字的习惯。养成正确的书写姿势和良好的书写习惯，书写规范、端正、整洁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能力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“能借助汉语拼音认读汉字”，“掌握汉字的基本笔画和常用的偏旁部首”，“能用音序和部首检字法查字典”等。有较强的独立识字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方法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教法与学法（如看图识字、汉语拼音识字，归类识字、比较法识字、利用形声字的特点识字等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）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．</a:t>
            </a:r>
            <a:r>
              <a:rPr b="0" lang="zh-CN" sz="2700" spc="-1" strike="noStrike">
                <a:solidFill>
                  <a:srgbClr val="ff0000"/>
                </a:solidFill>
                <a:latin typeface="Gill Sans MT"/>
              </a:rPr>
              <a:t>情感</a:t>
            </a: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：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喜欢学习汉字，有主动识字的愿望。初步感受汉字的形体美。在书写中体会汉字的美感。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关于数量目标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28800" y="1500120"/>
            <a:ext cx="8215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认识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600-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3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Gill Sans MT"/>
              </a:rPr>
              <a:t>学会：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一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800-10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二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；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第三学段</a:t>
            </a:r>
            <a:r>
              <a:rPr b="0" lang="en-US" sz="40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左右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71720" y="1642680"/>
            <a:ext cx="79293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    “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认识”和“学会”要求不同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会认的字”，只要求读准字音，不抄不默不考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华文中宋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华文中宋"/>
              </a:rPr>
              <a:t>、“学会的字”，要求能读准字音，认清字形，了解字词在语言环境中的意思，并能正确地书写。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b80a"/>
                </a:solidFill>
                <a:latin typeface="华文中宋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认、写分流，多认少写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214280" y="6094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Times New Roman"/>
              </a:rPr>
              <a:t>关于质量目标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各学段写字教学的侧重点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一学段：养成正确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姿势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和良好的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写字习惯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书写规范、端正、整洁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二学段：能使用硬笔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熟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地书写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正楷字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做到规范、端正、整洁，用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毛笔临摹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第三学段：硬笔书写楷书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行款整齐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有一定的速度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；用毛笔书写楷书，在书写中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体会汉字的优美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宋体"/>
              </a:rPr>
              <a:t>学情分析：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71320" y="1599840"/>
            <a:ext cx="8358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通过前期的学习，学生已累计认识汉字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6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，学会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050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个左右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对学习汉字有浓厚的兴趣，养成了主动识字的习惯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;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会使用字典、 词典，有初步的独立识字能力。能使用硬笔熟练地书写正楷字，做到规范、端正、整洁。能用毛笔临摹正楷字帖。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82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Gill Sans MT"/>
              </a:rPr>
              <a:t>五年级识字与写字的主要任务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教什么）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28800" y="1295280"/>
            <a:ext cx="82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学生认字累计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约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；五年级下册要求学生认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5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，写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3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独立识字学词，要继续坚持写好摘录笔记，还要向课外延伸积累字词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提高学生预防和纠正错别字的自觉性，培养学生与错别字做斗争的好习惯，习作错别字率不能大于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%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 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能用硬笔和毛笔书写楷书和对名家书法作品的临摹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五年级识字与写字教学实施建议</a:t>
            </a:r>
            <a:br>
              <a:rPr sz="3600"/>
            </a:b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（怎么教）</a:t>
            </a:r>
            <a:br>
              <a:rPr sz="18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（一）学会放手，培养学生独立识字的能力。</a:t>
            </a:r>
            <a:br>
              <a:rPr sz="36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在阅读教学过程中完成识字任务，加强对孩子的预习检查，保证自学的质量。要求学生带字典、词典进课堂，遇到问题，自己独立解决。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宋体"/>
              </a:rPr>
              <a:t>多种方法理解词语：</a:t>
            </a:r>
            <a:br>
              <a:rPr sz="4000"/>
            </a:br>
            <a:br>
              <a:rPr sz="40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在语境中学习、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联系生活经验进行联想和想象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根据汉字表义的特点，推知词义。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运用工具书理解词语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）向他人请教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  检测方式：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听写、测试、竞赛等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70c0"/>
                </a:solidFill>
                <a:latin typeface="黑体"/>
                <a:ea typeface="黑体"/>
              </a:rPr>
              <a:t>二）</a:t>
            </a: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继续注重语言积累</a:t>
            </a:r>
            <a:r>
              <a:rPr b="0" lang="zh-CN" sz="3600" spc="-1" strike="noStrike">
                <a:solidFill>
                  <a:srgbClr val="0070c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写摘录笔记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。教材“语文天地”中“日积月累”第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题列出的是课文的重点词语，应在阅读时逐步理解体会；下面加线的是要求会写的词语，其余的要求会认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“日积月累”里还有向</a:t>
            </a:r>
            <a:r>
              <a:rPr b="0" lang="zh-CN" sz="3200" spc="-1" strike="noStrike">
                <a:solidFill>
                  <a:srgbClr val="c00000"/>
                </a:solidFill>
                <a:latin typeface="宋体"/>
              </a:rPr>
              <a:t>课外延伸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的积累词语的练习。本册教材要积累：“龙”、“角度”、“火”、“光”等成语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关注“金钥匙”。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叶公好龙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一课的“金钥匙”指出有些字古今字义大不同：比如“走”在古代是“跑”的意思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,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写”在古代是“画”的意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、在课外阅读中勾画积累好词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5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70c0"/>
                </a:solidFill>
                <a:latin typeface="黑体"/>
                <a:ea typeface="黑体"/>
              </a:rPr>
              <a:t>（三）</a:t>
            </a:r>
            <a:r>
              <a:rPr b="1" lang="zh-CN" sz="3900" spc="-1" strike="noStrike">
                <a:solidFill>
                  <a:srgbClr val="0070c0"/>
                </a:solidFill>
                <a:latin typeface="宋体"/>
              </a:rPr>
              <a:t>继续加强写字指导，注重培养学生认认真真地写字，养成良好的写字习惯。</a:t>
            </a:r>
            <a:br>
              <a:rPr sz="3900"/>
            </a:br>
            <a:r>
              <a:rPr b="0" lang="zh-CN" sz="3600" spc="-1" strike="noStrike">
                <a:solidFill>
                  <a:srgbClr val="feb80a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课课有指导练习。（书空、在桌子上写、本子上写等）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作业写字提要求：书写规范、端正、整洁。</a:t>
            </a:r>
            <a:br>
              <a:rPr sz="3600"/>
            </a:b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2060"/>
                </a:solidFill>
                <a:latin typeface="宋体"/>
              </a:rPr>
              <a:t>、评价：有评分等级，有长效奖励机制。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“增强书写意识” “提笔就是练字时”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（四）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继续关注学生的毛笔书写，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在书写中体会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汉字的优美 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，培养学生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审美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五年级下册教材在第一单元展示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龙”字的</a:t>
            </a:r>
            <a:r>
              <a:rPr b="0" lang="en-US" sz="3200" spc="-1" strike="noStrike">
                <a:solidFill>
                  <a:srgbClr val="00206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种写法让学生欣赏、感受中华文字及书法艺术的魅力。</a:t>
            </a:r>
            <a:br>
              <a:rPr sz="3200"/>
            </a:b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    教师可组织一些生动有趣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书法欣赏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活动或交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名人写字小故事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或开展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班级书法赛</a:t>
            </a:r>
            <a:r>
              <a:rPr b="0" lang="zh-CN" sz="3200" spc="-1" strike="noStrike">
                <a:solidFill>
                  <a:srgbClr val="002060"/>
                </a:solidFill>
                <a:latin typeface="宋体"/>
              </a:rPr>
              <a:t>，使学生具有初步书法欣赏能力，提高学生的审美素养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如何预防和纠正错别字</a:t>
            </a:r>
            <a:r>
              <a:rPr b="0" lang="zh-CN" sz="4300" spc="-1" strike="noStrike">
                <a:solidFill>
                  <a:srgbClr val="7030a0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71360" y="164304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一、错别字的类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一）错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笔画错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、形近混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（二）别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Gill Sans MT"/>
              </a:rPr>
              <a:t>二、错别字产生的原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0c0"/>
                </a:solidFill>
                <a:latin typeface="Gill Sans MT"/>
              </a:rPr>
              <a:t>三、教学对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0080" y="990720"/>
            <a:ext cx="8143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一）教学前要有预见性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例如：五年级下册第三单元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古诗二首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“缘”字笔顺较为繁琐，学生容易把右上部分写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教师教学时使学生从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一开始就意识到哪些地方容易写错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在写字的时候就会格外注意，就可以降低错误率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（二）利用汉字规律联想识字。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比较字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放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游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东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练” </a:t>
            </a: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多观察、多比较、多分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了解字义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“幕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暮色”的“暮”是傍晚，“暮色”是傍晚昏暗的天色。   “夜幕”的“幕”是覆盖在上面的帐篷，在夜间景物像被一幅大幕罩住一样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、形义结合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暇”的“日”字旁写成“目”字旁“暇”是指空闲的时候，与时间有关，所以应该是“日”字旁，这类字有：暮、晌、昔、昏等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目”字旁与眼睛有关，这类字有：睁、睹、瞧、眨等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三）利用口诀、歌词帮助识记难字和轻易混淆的字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如： “裕”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有衣穿，有饭吃，生活就富裕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 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”与“幸”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“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辛苦一点，幸福十分。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</a:rPr>
              <a:t>感兴趣，学得快，也记得牢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Gill Sans MT"/>
              </a:rPr>
              <a:t>（四）建立“错别字医院”。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在专门的一本小册子里，写出自己写错、用错的字错在何处，找到病因后再订正、组词或解释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对记录下来的字，定期进行矫正训练，要求同学之间互测互评，每人只测自己错过的字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28800" y="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五）培养查字典的习惯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带字典或词典进课堂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4000" spc="-1" strike="noStrike">
                <a:solidFill>
                  <a:srgbClr val="002060"/>
                </a:solidFill>
                <a:latin typeface="Gill Sans MT"/>
              </a:rPr>
              <a:t>经常训练，经常检查，持之以恒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六）密切联系实际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课堂上无论交流什么，碰到易混淆的，哪怕是一个字、一个词也别光说不写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每次作业要及时检查，及时纠正作业中的错别字；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带普遍性的错字词，要发动学生讨论如何解决问题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习作（包括自读的笔记、日记）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自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互检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批阅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——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修改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28800" y="0"/>
            <a:ext cx="8215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Gill Sans MT"/>
              </a:rPr>
              <a:t>（七）实践体验，变被动为主动。</a:t>
            </a:r>
            <a:r>
              <a:rPr b="1" lang="zh-CN" sz="3200" spc="-1" strike="noStrike">
                <a:solidFill>
                  <a:srgbClr val="0070c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 开展多种活动： 同学之间互找错别字，在黑板上展示错别字，互批互改作文等，从中评选出“谁是改错大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榜样法：对于不写错别字的同学进行表扬、奖励，从而来矫正小学生的错别字现象。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71480" y="27144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标前言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2714400"/>
            <a:ext cx="765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口语交际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一、课标对“口语交际”的要求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   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总目标第九条：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具有日常口语交际的基本能力，学会倾听、表达与交流，初步学会运用口头语言文明地进行人际沟通和社会交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9720" y="64260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一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1-2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28800" y="128556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学说普通话，逐步养成讲普通话的习惯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认真听别人讲话，努力了解讲话的主要内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听故事、看音像作品，能复述大意和自己感兴趣的情节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能较完整地讲述小故事，能简要讲述自己感兴趣的见闻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与别人交谈，态度自然大方，有礼貌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002060"/>
                </a:solidFill>
                <a:latin typeface="Gill Sans MT"/>
              </a:rPr>
              <a:t>．有表达的自信心。积极参加讨论，敢于发表自己的意见</a:t>
            </a:r>
            <a:r>
              <a:rPr b="0" lang="zh-CN" sz="25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第二学段（</a:t>
            </a: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3-4</a:t>
            </a:r>
            <a:r>
              <a:rPr b="1" lang="zh-CN" sz="39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用普通话交谈。学会认真倾听，能就不理解的地方向人请教，就不同的意见与人商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听人说话能把握主要内容，并能简要转述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．能清楚明白地讲述见闻，说出自己的感受和想法。讲述故事力求具体生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第三学段（</a:t>
            </a: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5-6</a:t>
            </a: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1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与人交流能尊重和理解对方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2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乐于参与讨论，敢于发表自己的意见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3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听人说话认真、耐心，能抓住要点，并能简要转述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4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表达有条理，语气、语调适当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5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能根据对象和场合，稍作准备，作简单的发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Gill Sans MT"/>
              </a:rPr>
              <a:t>6</a:t>
            </a:r>
            <a:r>
              <a:rPr b="1" lang="zh-CN" sz="2500" spc="-1" strike="noStrike">
                <a:solidFill>
                  <a:srgbClr val="c00000"/>
                </a:solidFill>
                <a:latin typeface="Gill Sans MT"/>
              </a:rPr>
              <a:t>．注意语言美，抵制不文明的语言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9720" y="285840"/>
            <a:ext cx="7658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2800" spc="-1" strike="noStrike">
                <a:solidFill>
                  <a:srgbClr val="572314"/>
                </a:solidFill>
                <a:latin typeface="Gill Sans MT"/>
              </a:rPr>
              <a:t>口语交际”关键知识点在各年段呈现的序列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71720" y="1158840"/>
          <a:ext cx="7657920" cy="5430960"/>
        </p:xfrm>
        <a:graphic>
          <a:graphicData uri="http://schemas.openxmlformats.org/drawingml/2006/table">
            <a:tbl>
              <a:tblPr/>
              <a:tblGrid>
                <a:gridCol w="1395360"/>
                <a:gridCol w="626256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一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听、讲故事中培养学生口语表达的自信心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二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完整地讲述和句式表达训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三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清楚明白地讲述见闻或感受等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四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学习倾听并能对不同意见进行商讨和辩论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00000"/>
                          </a:solidFill>
                          <a:latin typeface="Gill Sans MT"/>
                          <a:ea typeface="华文中宋"/>
                        </a:rPr>
                        <a:t>五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六年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2060"/>
                          </a:solidFill>
                          <a:latin typeface="Gill Sans MT"/>
                          <a:ea typeface="华文中宋"/>
                        </a:rPr>
                        <a:t>侧重于在语文综合实践活动中对口语表达的综合运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畅所欲言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讲述与“龙”有关的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评议“从不同角度看问题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四单元：讨论“真诚表现在哪里”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讨论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五单元：说说我的心愿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评议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这个故事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讲述有关火的神话故事和说说各种灯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讲不怕鬼的故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讲述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Gill Sans MT"/>
              </a:rPr>
              <a:t>初显身手：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一单元：查阅资料，对搜集的信息进行整理，与同学进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行交流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交流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三单元：从不同的角度看同一事物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……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谈谈自己选择这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                  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些景物的想法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七单元：表演课本剧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晏子使楚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或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嗟来之食</a:t>
            </a:r>
            <a:r>
              <a:rPr b="0" lang="en-US" sz="23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表演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八单元：向同学介绍自己最想发明的灯的特点；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介绍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2060"/>
                </a:solidFill>
                <a:latin typeface="Gill Sans MT"/>
              </a:rPr>
              <a:t>第九单元：谈谈我对所谓“特异功能”的看法。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（</a:t>
            </a:r>
            <a:r>
              <a:rPr b="1" lang="zh-CN" sz="2300" spc="-1" strike="noStrike">
                <a:solidFill>
                  <a:srgbClr val="c00000"/>
                </a:solidFill>
                <a:latin typeface="Gill Sans MT"/>
              </a:rPr>
              <a:t>评议</a:t>
            </a:r>
            <a:r>
              <a:rPr b="0" lang="zh-CN" sz="23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1071720" y="5786280"/>
            <a:ext cx="671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0c0"/>
                </a:solidFill>
                <a:latin typeface="Cambria"/>
              </a:rPr>
              <a:t>认真倾听和有条理地表达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3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3920" y="785520"/>
            <a:ext cx="77295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72314"/>
                </a:solidFill>
                <a:latin typeface="Gill Sans MT"/>
              </a:rPr>
              <a:t>综合活动：</a:t>
            </a:r>
            <a:br>
              <a:rPr sz="3900"/>
            </a:b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70904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二单元：举行读书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六单元：开劳动恳谈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Gill Sans MT"/>
              </a:rPr>
              <a:t>第十单元：我们去旅行和期末总结会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2769480" y="4214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70c0"/>
                </a:solidFill>
                <a:latin typeface="Cambria"/>
              </a:rPr>
              <a:t>综合表达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年级口语交际的关键知识点：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00080" y="2332080"/>
            <a:ext cx="75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倾听别人意见，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学习有条理地表达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初步学习在综合活动过程中文明地进行口语交际实践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学生是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语文实践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口语交际的，是听与说双方的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互动过程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，教学活动主要应在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具体的交际情境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中进行，不宜采用大量讲授口语交际原则、要领的方式。应努力选择贴近生活的话题，采用灵活的形式组织教学。 在教学的全程中关注学生的口语交际活动，特别是要培养学生的对方意识，倾听别人的意见，根据对方的发言及态度调整自己的看法和发言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Gill Sans MT"/>
              </a:rPr>
              <a:t>一、课程性质</a:t>
            </a:r>
            <a:br>
              <a:rPr sz="3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356840" y="2643120"/>
            <a:ext cx="749772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 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zh-CN" sz="4000" spc="-1" strike="noStrike">
                <a:solidFill>
                  <a:srgbClr val="002060"/>
                </a:solidFill>
                <a:latin typeface="Gill Sans MT"/>
              </a:rPr>
              <a:t>聚焦于“语言文字运用”， 努力体现语文课程的实践性和综合性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情分析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经过四年多的学习，五年级的学生已经具备一定的口语交际能力。大部分学生能较为自信地表达，且具有一定的倾听习惯，讲述也较为完整。但是大部分学生还不能有条理地表达自己的感受，在倾听别人的发言时，还不能准确、快速地抓住要点进行评议。当然，还是有部分学生的口语表达能力较差，平时的发言次数或机会太少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1071720" y="157176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结合语文课的各种课型培养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1071720" y="2714760"/>
            <a:ext cx="81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、利用“畅所欲言”和“初显身手”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mbria"/>
              </a:rPr>
              <a:t>板块，集中训练学生的口语交际能力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1071720" y="41432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mbria"/>
              </a:rPr>
              <a:t>学生主持→明确要求→小组讨论→全班交流→师生总结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案例呈现：“龙”的故事会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28800" y="1356840"/>
            <a:ext cx="82152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内容：</a:t>
            </a:r>
            <a:br>
              <a:rPr sz="2700"/>
            </a:br>
            <a:r>
              <a:rPr b="0" lang="zh-CN" sz="27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交流与“龙”相关的故事、工艺品、特产、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名等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目标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交流与“龙”相关的故事、工艺品、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特产、地名等，体会龙的象征意义，激发学生作为龙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的传人的民族自豪感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继续培养学生认真倾听的习惯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通过学生的讲述与交流，培养学生有条理地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进行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Gill Sans MT"/>
              </a:rPr>
              <a:t>教学重难点：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       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通过学生的讲述与交流，培养学生有条理地进行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口语表达的能力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Gill Sans MT"/>
              </a:rPr>
              <a:t>教学过程：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导入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14280" y="142848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00000"/>
                </a:solidFill>
                <a:latin typeface="Gill Sans MT"/>
              </a:rPr>
              <a:t>主持人开场白：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同学们，龙是威力无比、变幻万千、无所不能的。它上能腾云驾雾，显露云端；下能呼风唤雨，潜入深渊。龙是至高无上权利的象征，又是祥和幸福，欢腾自由的体现。龙更是我们中国人对自由完美的向往和追求。我们作为龙的传人，有必要去了解有关龙的故事和文化。下面，我宣布“龙”的故事会现在开始。首先有请邓老师为本次活动提要求。掌声欢迎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明确要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小组交流完毕以后，要对发言人的讲述做重点指导，让他讲述的故事变得更加具体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在全班交流时，讲述人一定要做到声音洪亮，自然大方，并且可以适当添加一些肢体语言让讲述更生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发言人在讲述时要注意有条理地表达。（讲述故事时，要讲清楚故事的起因、经过、结果；介绍工艺品或特产地名时，要按照一定的顺序等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、同学们在听讲述时一定要做到认真倾听，并积极参与互动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7030a0"/>
                </a:solidFill>
                <a:latin typeface="Gill Sans MT"/>
              </a:rPr>
              <a:t>三、小组讨论交流，做准备。</a:t>
            </a:r>
            <a:br>
              <a:rPr sz="3900"/>
            </a:b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       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     </a:t>
            </a:r>
            <a:r>
              <a:rPr b="0" lang="zh-CN" sz="3000" spc="-1" strike="noStrike">
                <a:solidFill>
                  <a:srgbClr val="002060"/>
                </a:solidFill>
                <a:latin typeface="Gill Sans MT"/>
              </a:rPr>
              <a:t>根据实际交流情况推选出小组重点发言人，并帮助发言人做好全班交流的准备。</a:t>
            </a:r>
            <a:br>
              <a:rPr sz="3900"/>
            </a:br>
            <a:endParaRPr b="0" lang="en-US" sz="3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00080" y="3000240"/>
            <a:ext cx="76867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7030a0"/>
                </a:solidFill>
                <a:latin typeface="华文中宋"/>
              </a:rPr>
              <a:t>四、全班交流</a:t>
            </a: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1" lang="zh-CN" sz="3000" spc="-1" strike="noStrike">
                <a:solidFill>
                  <a:srgbClr val="002060"/>
                </a:solidFill>
                <a:latin typeface="Gill Sans MT"/>
              </a:rPr>
              <a:t>各小组发言人做全班交流，同学对讲述做评价，对不同的评价意见，主持人还可以引导辩论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五、师生总结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主持人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，我们作为龙的传人，必将秉承龙的精神，去搏击万里长空，去迎接旭日东升。相信通过我们的努力，将来一定能展示出我们中国龙的风采。齐唱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龙的传人</a:t>
            </a:r>
            <a:r>
              <a:rPr b="0" lang="en-US" sz="27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2700" spc="-1" strike="noStrike">
                <a:solidFill>
                  <a:srgbClr val="002060"/>
                </a:solidFill>
                <a:latin typeface="Gill Sans MT"/>
              </a:rPr>
              <a:t>、老师总结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          </a:t>
            </a:r>
            <a:r>
              <a:rPr b="0" lang="zh-CN" sz="2700" spc="-1" strike="noStrike">
                <a:solidFill>
                  <a:srgbClr val="002060"/>
                </a:solidFill>
                <a:latin typeface="Gill Sans MT"/>
              </a:rPr>
              <a:t>同学们今天的故事会开得很成功，讲述都很精彩。大部分同学都很认真地倾听，参与互动也很积极。讲述的同学如果在讲述的过程中强调一些表示顺序的词语，语言再生动一些，配合自己的表情和肢体语言，相信你们的讲述会更精彩。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五年级口语交际教学建议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结合语文课的各种课型培养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、利用“畅所欲言”和“初显身手”板块，集中训练学生的口语交际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Gill Sans MT"/>
              </a:rPr>
              <a:t>学生主持→明确要求→小组讨论→全班交流→师生总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00120" y="4786200"/>
            <a:ext cx="7429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、利用综合活动，初步培养学生的综合表达能力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环节两时段两总结”的语文综合活动课堂表达模式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9720" y="1885680"/>
            <a:ext cx="771516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所谓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三环节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：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合作分工，制定计划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调查实践，资料搜集；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课堂汇报，评价提升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时段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课内表达和课外表达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两总结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是指学生自我总结和教师总结相结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二、课程基本理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2848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1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语文教育的目的是“全面提高学生的语文素养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2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前提是“正确把握语文教育的特点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3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策略是“积极倡导自主、合作、探究的学习方式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4.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保障是“努力建设开放而有活力的语文课程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一、合作分工，制定计划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主题，共同确定计划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讨论问题、总结归纳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根据组员情况对计划任务进行分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主动申请、共同协商。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梳理实施计划任务时要注意的一些问题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梳理问题、补充问题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二、调查实践，资料搜集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按计划分工进行实践调查，资料搜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有礼貌地与他人交流、提问题的准确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汇总，资料梳理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表达的准确性和条理性，总结表达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8480" y="4996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572314"/>
                </a:solidFill>
                <a:latin typeface="Gill Sans MT"/>
              </a:rPr>
              <a:t>三、课堂汇报，评价提升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5684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小组交流汇报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规范汇报方式和汇报语言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2060"/>
                </a:solidFill>
                <a:latin typeface="Gill Sans MT"/>
              </a:rPr>
              <a:t>、生生评价互动。</a:t>
            </a:r>
            <a:r>
              <a:rPr b="1" lang="zh-CN" sz="3200" spc="-1" strike="noStrike">
                <a:solidFill>
                  <a:srgbClr val="c00000"/>
                </a:solidFill>
                <a:latin typeface="Gill Sans MT"/>
              </a:rPr>
              <a:t>（口语交际要点：训练学生评价语言的规范性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两总结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00080" y="1714320"/>
            <a:ext cx="814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        </a:t>
            </a:r>
            <a:r>
              <a:rPr b="1" lang="zh-CN" sz="3600" spc="-1" strike="noStrike">
                <a:solidFill>
                  <a:srgbClr val="002060"/>
                </a:solidFill>
                <a:latin typeface="Gill Sans MT"/>
              </a:rPr>
              <a:t>学生自我总结和教师总结相结合。   </a:t>
            </a:r>
            <a:r>
              <a:rPr b="1" lang="zh-CN" sz="3600" spc="-1" strike="noStrike">
                <a:solidFill>
                  <a:srgbClr val="c00000"/>
                </a:solidFill>
                <a:latin typeface="Gill Sans MT"/>
              </a:rPr>
              <a:t>（口语交际要点：学生和教师总结活动过程中表达方面的优点和不足之处）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28840" y="1213920"/>
            <a:ext cx="82152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200" spc="-1" strike="noStrike">
                <a:solidFill>
                  <a:srgbClr val="0070c0"/>
                </a:solidFill>
                <a:latin typeface="Gill Sans MT"/>
              </a:rPr>
              <a:t>谢谢！</a:t>
            </a:r>
            <a:endParaRPr b="0" lang="en-US" sz="2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Gill Sans MT"/>
              </a:rPr>
              <a:t>三、课程设计思路</a:t>
            </a:r>
            <a:br>
              <a:rPr sz="5400"/>
            </a:b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28480" y="2428560"/>
            <a:ext cx="74977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学段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五个板块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Gill Sans MT"/>
              </a:rPr>
              <a:t>四个建议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71480" y="235692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识字与写字解读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   </a:t>
            </a: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一学段（一、二年级）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28800" y="1250640"/>
            <a:ext cx="82152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喜欢学习汉字，有主动识字的愿望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认识常用汉字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16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800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掌握汉字的基本笔画和常用的偏旁部首，能按笔顺规则用硬笔写字，注意间架结构。初步感受汉字的形体美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养成正确的书写姿势和良好的书写习惯，书写规范、端正、整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学会汉语拼音。能读准声母、韵母、声调和整体认读音节。能准确地拼读音节，正确书写声母、韵母和音节。认识大写字母，熟记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《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汉语拼音字母表</a:t>
            </a: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》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0" lang="zh-CN" sz="2800" spc="-1" strike="noStrike">
                <a:solidFill>
                  <a:srgbClr val="002060"/>
                </a:solidFill>
                <a:latin typeface="Gill Sans MT"/>
              </a:rPr>
              <a:t>．能借助汉语拼音认读汉字。能用音序和部首检字法查字典，学习独立识字。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030a0"/>
                </a:solidFill>
                <a:latin typeface="Gill Sans MT"/>
              </a:rPr>
              <a:t>第二学段（三、四年级）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428480"/>
            <a:ext cx="82152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对学习汉字有浓厚的兴趣，养成主动识字的习惯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累计认识常用汉字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25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，其中</a:t>
            </a: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1800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会使用字典、词典，有初步的独立识字能力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4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能使用硬笔熟练地书写正楷字，做到规范、端正、整洁。用毛笔临摹正楷字帖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ill Sans MT"/>
              </a:rPr>
              <a:t>5</a:t>
            </a:r>
            <a:r>
              <a:rPr b="0" lang="zh-CN" sz="3200" spc="-1" strike="noStrike">
                <a:solidFill>
                  <a:srgbClr val="002060"/>
                </a:solidFill>
                <a:latin typeface="Gill Sans MT"/>
              </a:rPr>
              <a:t>．有条件的地方，可学习使用键盘输入汉字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12:33:01Z</dcterms:created>
  <dc:creator>Administrator</dc:creator>
  <dc:description/>
  <cp:keywords/>
  <dc:language>en-US</dc:language>
  <cp:lastModifiedBy>china</cp:lastModifiedBy>
  <dcterms:modified xsi:type="dcterms:W3CDTF">2016-03-13T12:58:48Z</dcterms:modified>
  <cp:revision>116</cp:revision>
  <dc:subject/>
  <dc:title>小学语文课标暨教材解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